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74E-9A68-4EA8-9C65-1CC96ECC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213-089C-4FD1-AAD5-A57EF8D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F3C-AE08-4C6B-80E0-6345BA4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FC6-D378-4B07-9891-DF2549B1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4F1-23AC-4F7D-BBDA-3A2D73E9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9786-98BA-41C7-BC4B-5A83BE8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969-6CDE-4557-B173-6E61DD6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5419-BAC9-401D-8E02-BA359AF3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45FD-D6E7-4917-99F8-4D09469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CE4A-ABD5-45E0-873B-7686FE8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030-A1AC-4321-810E-7CAFAC3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ADF-1E44-4B1D-BAE4-F498A5C8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3DE6-DE7C-40E9-8C16-5D0854E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AD39-979C-4F61-A306-ED9DD4E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F46A-6880-4F76-86D2-92DB0D2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FE6B-F7AC-4313-871E-BF6546AE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8800-073C-4631-9B43-1B15F0FA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35A-B0E9-4270-8FBA-AC3AC730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46D-0889-45CD-AE3D-725869D5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FEF-00EF-4BAC-B01F-FC90ADE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0BD-9752-46C5-B685-59843E7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014-77C5-4D59-902F-C91DF6E0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D8E-7D2F-47DF-844B-9668171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9AC-11C1-44EE-AEBD-86162AF4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AEFD-DD73-47C1-AC35-951F456CAC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A74-DA7F-4197-8F0A-E287B00928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Chapter 6</a:t>
            </a:r>
            <a:br>
              <a:rPr sz="3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REPUBLICAN EXPERIMENT</a:t>
            </a:r>
            <a:br>
              <a:rPr sz="4000"/>
            </a:b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 New Political Moralit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724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00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atural Rights and the State Constitu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3364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onstitutions guaranteed natur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 by 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s weak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ed legislatures given most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wer to the Peo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for adoption of Constitution pioneered by Massachuse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tion written by a special conven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ication by referendum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gers to the new co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succumbed to material temptation and 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liberty threatened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umbling Toward a New National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for independence required coordination among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government first created to meet wartime need for 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65440"/>
            <a:ext cx="830556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Dickinson’s plan for cent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cession of West to Congress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equality in state representation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les of Confederation severely limited central government’s authority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rticles of Confederation: Central Government Structure and Power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had one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send two to seven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x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ments required unani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arge of foreign and Native American relations, military, and disputes betwee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western 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stern Land: 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ey to the First Constitu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s lost out when British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land’s ratification of Articles delayed for Virginia’s renunciation of western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81—Virginia took lead in ceding western claims to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ates ceded claims to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gained ownership of all land west of Appalach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estern Land Claims Ceded by the State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5334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rthwest Ordinance: The Confederation’s Major Achievemen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Ord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ly division of land into sections and tow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ection set aside to finance schoo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to sell for minimum of $1 gold per 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sseh Cutler and the Ohio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rthwest Ordinance: The Confederation’s Major Achievemen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west Ordinance, 17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three to five new territories in North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of 5000 may elect Assem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of 60,000 may petition for state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of Right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 outla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of the Ohio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ment more cha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Boone and Kent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Frank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thwest Terri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43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fining Republican Cultur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ism—new core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promising commitment to liberty and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ngelical notions of high public 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Revolutionary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individual liberty with soci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property rights with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ing answers resulted in variety of republican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Land Ordinance of 1785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engthening Federal Author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atisfaction with Confed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recovery after the Revolution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thought stronger central government would restore economic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Nationalist Critiqu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oration of trade with Britain caused trade deficit and hard currency shor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unable to address trade, inflation, and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had no power to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ts versus loc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to pay soldiers sparked “Newburgh Conspiracy” (squelched by Washingt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of reform prompted nationalists to  consider Articles hopelessly de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plomatic Humil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failed to get states to collect debts owed British merc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taliation, British refused to evacuate Ohio River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closed New Orleans to American commerce in 178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Jay to negotiate re-opening Mississipp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signed treaty favoring N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and South denounced, Congress rejected Jay-Gardoqui Trea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ave We Fought for This?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785, the country seemed adr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: “Was it with these expectations that we launched into a sea of troubl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Genius of James Madis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by 1780s of shortcomings in small state republ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ry citizens not virtuous enough for a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ity did not preserve the property rights of the min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central government gained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Madison persuaded Americans that large republics could be free and democr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factions would neutralize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ederalist #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titutional Reform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786—Annapolis Convention agreed to meet again, write a new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y’s Rebellion, 17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volt of indebted vete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zed breakdown in law and order as perceived by propertied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strengthened support for new cent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hiladelphia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ed May 178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y-five delegates from all states except Rhode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tes possessed wide practic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cy rule imp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e by state, needed only a majority instead of nin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venting a Federal Republic:  The Virginia Pl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2033640"/>
            <a:ext cx="845820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government may veto all stat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cameral legislature of state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ouse elected, the other appo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states would have more represent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 executive appointed by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states objected to large-state dom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venting a Federal Republic:  The New Jersey Pl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given greater taxing and trade regulation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would have one vote in a unicameral legisl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les of Confederation otherwise untouc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ving in the Shadow of R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tion introduced unintended changes into America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social relations challe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 questions raised about the meaning of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romise Saves the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given two delegates in the Senate—a victory for the small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of Representatives based on population—a victory for the larg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oney bills must originate in th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-fifths of the slave population counted toward representation in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romising with Sla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6544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 of slavery threatened Convention’s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ers tended to be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ers threatened to bolt if slavery weak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 trade permitted to continue to 18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s the evil is, a dismemberment of the Union would be worse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James Madis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rcRect l="0" t="0" r="0" b="1380"/>
          <a:stretch/>
        </p:blipFill>
        <p:spPr>
          <a:xfrm>
            <a:off x="68580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Last Detai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26—Committee of Detail formed to prepare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ons to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oral College selects p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given a veto over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may appoint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that Bill of Rights unnecess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, the Peo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 sought to bypass vested interests of state legisl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of ratification to special state conven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ion to go into effect on approval by nine state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rase “We the People” made Constitution a government of the people, not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se Constitution?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uggle for Ratif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ers recognized the Constitution went beyond the Convention’s man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referred to states with no recomme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ederalis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ed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uggests they supported less of a strong central government than they d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-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Federalist 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ti-Federalis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ed to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usted any government removed from direct control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ed the new Constitution favored the rich and powerf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ideas later reflected in the age of Andrew Jack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gress of Ratif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lear correlation between social status and support for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eded in winning ratification in eleven states by June 17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Carolina ratified November 17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e Island ratified May 17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closed ranks behind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tification of the Constit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146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cial and Political Refo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innatus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laws of inheritance to erase feud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y qualifications for voting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s moved to enable better representation for frontier sett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church 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ding the Bill of Righ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uit of anti-Federalist activ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Bill of Rights forestalled Second Constitutional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was to protect individual rights from government 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includ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assembly, speech, relig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s, and bearing 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y trial by a jury of p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unreasonable sea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en amendments added by December 17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ccess Depends on the Peo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mericans complained that the new government had a great potential for despo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were more optimistic and saw it as a great beginning for the new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frican American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 the New Republic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03364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t sentiment spread in wake of the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Woo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 embraced Declaration’s stress on natur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intellectual success made it hard to deny their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jamin Banneker, math and astr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llis Wheatley, poe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frican Americans in the New Republic: Emancip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00, slavery legally dying in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sm and segregation rem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ers debated ab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dividuals fre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motives overcame republican ide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gin breathed new life into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Challenge of Women’s Right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033640"/>
            <a:ext cx="853416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Revolutionary trend ended tyranny in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 Thoughts Concerning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demanded the natural right of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tured proper values through “Republican Motherhood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more assertive in divorce, econo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d political and legal righ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tates: Experiments in Republica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utionary state constitutions served as experiments in republican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ights gleaned from state experiences later applied to constructing central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ueprints for State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onstitution writers insisted on preparing written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edents in colonial charters, church coven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break with England’s unwritten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8:53Z</dcterms:modified>
  <cp:revision>7</cp:revision>
  <dc:subject/>
  <dc:title>Chapter 6 THE REPUBLICAN EXPERIMENT A New Political Morality</dc:title>
</cp:coreProperties>
</file>